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6B62-CE22-4440-8E1A-BBE59E8A7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883F-A2FE-4D86-B9DE-667A5AC62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3635-307B-4C2D-B209-705B2DD61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1B74-95FC-49A4-B156-395D4B8E8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6692-5AD6-4B86-B1C1-77B36E7F6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E56B-B2C6-470C-A081-DCAABCE0F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6338-D508-4E20-84FC-8D14D657E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CC16-59BF-4DD8-AFFF-358A516A7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DCF4-C4E6-4E6D-92F4-D4A56E6D7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8621-E7D3-46B7-9EDC-07DD6DA0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CB91-B61D-47D7-84E1-246AAB63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E071-0FA5-4920-A104-14DC32DA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F5C0A-8693-4FAC-A194-955C105306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4401" t="29621" r="73558" b="54698"/>
          <a:stretch/>
        </p:blipFill>
        <p:spPr>
          <a:xfrm>
            <a:off x="609480" y="380880"/>
            <a:ext cx="3276720" cy="32004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rcRect l="14275" t="48516" r="73299" b="35419"/>
          <a:stretch/>
        </p:blipFill>
        <p:spPr>
          <a:xfrm>
            <a:off x="304920" y="2057400"/>
            <a:ext cx="4038480" cy="39164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rcRect l="14382" t="67461" r="73487" b="17153"/>
          <a:stretch/>
        </p:blipFill>
        <p:spPr>
          <a:xfrm>
            <a:off x="4572000" y="1752480"/>
            <a:ext cx="396252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14172" t="18787" r="73384" b="64877"/>
          <a:stretch/>
        </p:blipFill>
        <p:spPr>
          <a:xfrm>
            <a:off x="4952880" y="685800"/>
            <a:ext cx="3733920" cy="3676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rcRect l="14264" t="38185" r="73436" b="45528"/>
          <a:stretch/>
        </p:blipFill>
        <p:spPr>
          <a:xfrm>
            <a:off x="5334120" y="3048120"/>
            <a:ext cx="3276360" cy="3252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rcRect l="14331" t="56800" r="73484" b="27647"/>
          <a:stretch/>
        </p:blipFill>
        <p:spPr>
          <a:xfrm>
            <a:off x="4572000" y="1676520"/>
            <a:ext cx="4038480" cy="3865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rcRect l="14205" t="75474" r="73517" b="8225"/>
          <a:stretch/>
        </p:blipFill>
        <p:spPr>
          <a:xfrm>
            <a:off x="685800" y="838080"/>
            <a:ext cx="44402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14393" t="30251" r="73307" b="53768"/>
          <a:stretch/>
        </p:blipFill>
        <p:spPr>
          <a:xfrm>
            <a:off x="5638680" y="914400"/>
            <a:ext cx="2971800" cy="2895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rcRect l="14482" t="49141" r="73358" b="35025"/>
          <a:stretch/>
        </p:blipFill>
        <p:spPr>
          <a:xfrm>
            <a:off x="1523880" y="1523880"/>
            <a:ext cx="32767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14094" t="29699" r="73366" b="54486"/>
          <a:stretch/>
        </p:blipFill>
        <p:spPr>
          <a:xfrm>
            <a:off x="6324480" y="2057400"/>
            <a:ext cx="2819520" cy="2666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rcRect l="14482" t="48290" r="73244" b="36167"/>
          <a:stretch/>
        </p:blipFill>
        <p:spPr>
          <a:xfrm>
            <a:off x="5105520" y="685800"/>
            <a:ext cx="3047760" cy="2895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rcRect l="14393" t="67131" r="73388" b="17084"/>
          <a:stretch/>
        </p:blipFill>
        <p:spPr>
          <a:xfrm>
            <a:off x="380880" y="457200"/>
            <a:ext cx="24386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14323" t="33858" r="73528" b="50352"/>
          <a:stretch/>
        </p:blipFill>
        <p:spPr>
          <a:xfrm>
            <a:off x="533520" y="609480"/>
            <a:ext cx="30477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6T00:20:00Z</dcterms:created>
  <dc:creator>blum</dc:creator>
  <dc:description/>
  <dc:language>en-US</dc:language>
  <cp:lastModifiedBy>blum</cp:lastModifiedBy>
  <dcterms:modified xsi:type="dcterms:W3CDTF">2005-12-06T01:18:34Z</dcterms:modified>
  <cp:revision>5</cp:revision>
  <dc:subject/>
  <dc:title>Slide 1</dc:title>
</cp:coreProperties>
</file>