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733-0A05-412B-B6A3-8329E17A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A773-2762-474A-8AE0-759D9A10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57C-A53B-4D8B-850C-C003561D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8CF-256A-448A-AFEA-7ACD0D12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071-5B2E-4D06-9A0F-17A867C9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C6F3-585D-42F1-AD8B-6756FE02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C55-A8C5-43AE-9683-87E78E97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98AD-7118-4724-88D7-A9F1F2F7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B27-7695-4248-8DD1-FAF71C0A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A29-F4E3-45CB-ABD5-59DAC9B0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175-56E2-44F9-B5DB-4C124BC4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CB2-75A4-4659-9BBF-5C4B3478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D6CC-DDE9-4061-8C19-5C6DF6AB0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401" t="29621" r="73558" b="54698"/>
          <a:stretch/>
        </p:blipFill>
        <p:spPr>
          <a:xfrm>
            <a:off x="609480" y="380880"/>
            <a:ext cx="3276720" cy="3200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4275" t="48516" r="73299" b="35419"/>
          <a:stretch/>
        </p:blipFill>
        <p:spPr>
          <a:xfrm>
            <a:off x="304920" y="2057400"/>
            <a:ext cx="4038480" cy="3916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14382" t="67461" r="73487" b="17153"/>
          <a:stretch/>
        </p:blipFill>
        <p:spPr>
          <a:xfrm>
            <a:off x="4572000" y="1752480"/>
            <a:ext cx="396252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4172" t="18787" r="73384" b="64877"/>
          <a:stretch/>
        </p:blipFill>
        <p:spPr>
          <a:xfrm>
            <a:off x="4952880" y="685800"/>
            <a:ext cx="3733920" cy="367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4264" t="38185" r="73436" b="45528"/>
          <a:stretch/>
        </p:blipFill>
        <p:spPr>
          <a:xfrm>
            <a:off x="5334120" y="3048120"/>
            <a:ext cx="3276360" cy="3252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4331" t="56800" r="73484" b="27647"/>
          <a:stretch/>
        </p:blipFill>
        <p:spPr>
          <a:xfrm>
            <a:off x="4572000" y="1676520"/>
            <a:ext cx="4038480" cy="386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14205" t="75474" r="73517" b="8225"/>
          <a:stretch/>
        </p:blipFill>
        <p:spPr>
          <a:xfrm>
            <a:off x="685800" y="838080"/>
            <a:ext cx="4440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4393" t="30251" r="73307" b="53768"/>
          <a:stretch/>
        </p:blipFill>
        <p:spPr>
          <a:xfrm>
            <a:off x="5638680" y="9144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14482" t="49141" r="73358" b="35025"/>
          <a:stretch/>
        </p:blipFill>
        <p:spPr>
          <a:xfrm>
            <a:off x="1523880" y="152388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4094" t="29699" r="73366" b="54486"/>
          <a:stretch/>
        </p:blipFill>
        <p:spPr>
          <a:xfrm>
            <a:off x="6324480" y="2057400"/>
            <a:ext cx="281952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14482" t="48290" r="73244" b="36167"/>
          <a:stretch/>
        </p:blipFill>
        <p:spPr>
          <a:xfrm>
            <a:off x="5105520" y="685800"/>
            <a:ext cx="30477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14393" t="67131" r="73388" b="17084"/>
          <a:stretch/>
        </p:blipFill>
        <p:spPr>
          <a:xfrm>
            <a:off x="380880" y="457200"/>
            <a:ext cx="24386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4323" t="33858" r="73528" b="50352"/>
          <a:stretch/>
        </p:blipFill>
        <p:spPr>
          <a:xfrm>
            <a:off x="533520" y="60948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0:20:00Z</dcterms:created>
  <dc:creator>blum</dc:creator>
  <dc:description/>
  <dc:language>en-US</dc:language>
  <cp:lastModifiedBy>blum</cp:lastModifiedBy>
  <dcterms:modified xsi:type="dcterms:W3CDTF">2005-12-06T01:18:34Z</dcterms:modified>
  <cp:revision>5</cp:revision>
  <dc:subject/>
  <dc:title>Slide 1</dc:title>
</cp:coreProperties>
</file>