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326-36EF-40EF-873B-1872D3A3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BCE-AEC7-4CD4-86E4-4BCFC084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CB0-EE23-428C-A7A7-BC9DA58E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AD4-7B7C-4C72-813D-95935BF9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B9A-66D5-4849-AA5D-00F9C9E5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EC4-79B4-4BAF-8ACF-49B99442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623-4EE7-49AC-A42E-F4DC1F12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011-78C3-4507-B1CA-F89F7A03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D14-C18E-4AFD-9BF2-6BD76BF9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EDF-E905-43C1-AC24-8A11EDAC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E02-B370-441C-9DC0-E9A0CB53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CFB-5C92-4CE9-8295-4D240BFC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6654-25E4-4639-86A3-D7710591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401" t="29621" r="73558" b="54698"/>
          <a:stretch/>
        </p:blipFill>
        <p:spPr>
          <a:xfrm>
            <a:off x="609480" y="38088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4275" t="48516" r="73299" b="35419"/>
          <a:stretch/>
        </p:blipFill>
        <p:spPr>
          <a:xfrm>
            <a:off x="304920" y="2057400"/>
            <a:ext cx="4038480" cy="3916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4382" t="67461" r="73487" b="17153"/>
          <a:stretch/>
        </p:blipFill>
        <p:spPr>
          <a:xfrm>
            <a:off x="4572000" y="1752480"/>
            <a:ext cx="39625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4172" t="18787" r="73384" b="64877"/>
          <a:stretch/>
        </p:blipFill>
        <p:spPr>
          <a:xfrm>
            <a:off x="4952880" y="685800"/>
            <a:ext cx="3733920" cy="367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4264" t="38185" r="73436" b="45528"/>
          <a:stretch/>
        </p:blipFill>
        <p:spPr>
          <a:xfrm>
            <a:off x="5334120" y="3048120"/>
            <a:ext cx="3276360" cy="325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14331" t="56800" r="73484" b="27647"/>
          <a:stretch/>
        </p:blipFill>
        <p:spPr>
          <a:xfrm>
            <a:off x="4572000" y="1676520"/>
            <a:ext cx="4038480" cy="386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14205" t="75474" r="73517" b="8225"/>
          <a:stretch/>
        </p:blipFill>
        <p:spPr>
          <a:xfrm>
            <a:off x="685800" y="838080"/>
            <a:ext cx="4440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4393" t="30251" r="73307" b="53768"/>
          <a:stretch/>
        </p:blipFill>
        <p:spPr>
          <a:xfrm>
            <a:off x="5638680" y="9144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4482" t="49141" r="73358" b="35025"/>
          <a:stretch/>
        </p:blipFill>
        <p:spPr>
          <a:xfrm>
            <a:off x="1523880" y="152388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4094" t="29699" r="73366" b="54486"/>
          <a:stretch/>
        </p:blipFill>
        <p:spPr>
          <a:xfrm>
            <a:off x="6324480" y="20574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4482" t="48290" r="73244" b="36167"/>
          <a:stretch/>
        </p:blipFill>
        <p:spPr>
          <a:xfrm>
            <a:off x="5105520" y="685800"/>
            <a:ext cx="30477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4393" t="67131" r="73388" b="17084"/>
          <a:stretch/>
        </p:blipFill>
        <p:spPr>
          <a:xfrm>
            <a:off x="380880" y="457200"/>
            <a:ext cx="2438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4323" t="33858" r="73528" b="50352"/>
          <a:stretch/>
        </p:blipFill>
        <p:spPr>
          <a:xfrm>
            <a:off x="533520" y="60948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0:20:00Z</dcterms:created>
  <dc:creator>blum</dc:creator>
  <dc:description/>
  <dc:language>en-US</dc:language>
  <cp:lastModifiedBy>blum</cp:lastModifiedBy>
  <dcterms:modified xsi:type="dcterms:W3CDTF">2005-12-06T01:18:34Z</dcterms:modified>
  <cp:revision>5</cp:revision>
  <dc:subject/>
  <dc:title>Slide 1</dc:title>
</cp:coreProperties>
</file>