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44B-3D28-456E-87EC-4ACC1D13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399-E75A-491F-BDAE-143CD041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EE8-4D98-49C4-8DD7-39CCD0E2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DA0-0391-40E3-927D-9F13CDD0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109-1471-4C30-818D-5DD359A6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81F-B74A-4801-A625-6A0E4C94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55F-250B-4060-BF25-9A63983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821-8E16-456B-861D-BEA288E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DA6-A425-4504-B841-CC5EC1B3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5C1-99BC-4D20-BF18-99CC006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C93-0007-4617-8630-7C27F5B5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877-3413-4BCC-B0AD-C51BC51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0473-9DCD-42DD-B446-702D1DFB5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401" t="29621" r="73558" b="54698"/>
          <a:stretch/>
        </p:blipFill>
        <p:spPr>
          <a:xfrm>
            <a:off x="609480" y="380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4275" t="48516" r="73299" b="35419"/>
          <a:stretch/>
        </p:blipFill>
        <p:spPr>
          <a:xfrm>
            <a:off x="304920" y="2057400"/>
            <a:ext cx="4038480" cy="391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4382" t="67461" r="73487" b="17153"/>
          <a:stretch/>
        </p:blipFill>
        <p:spPr>
          <a:xfrm>
            <a:off x="4572000" y="1752480"/>
            <a:ext cx="3962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172" t="18787" r="73384" b="64877"/>
          <a:stretch/>
        </p:blipFill>
        <p:spPr>
          <a:xfrm>
            <a:off x="4952880" y="685800"/>
            <a:ext cx="373392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4264" t="38185" r="73436" b="45528"/>
          <a:stretch/>
        </p:blipFill>
        <p:spPr>
          <a:xfrm>
            <a:off x="5334120" y="3048120"/>
            <a:ext cx="3276360" cy="32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4331" t="56800" r="73484" b="27647"/>
          <a:stretch/>
        </p:blipFill>
        <p:spPr>
          <a:xfrm>
            <a:off x="4572000" y="1676520"/>
            <a:ext cx="4038480" cy="38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14205" t="75474" r="73517" b="8225"/>
          <a:stretch/>
        </p:blipFill>
        <p:spPr>
          <a:xfrm>
            <a:off x="685800" y="838080"/>
            <a:ext cx="4440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393" t="30251" r="73307" b="53768"/>
          <a:stretch/>
        </p:blipFill>
        <p:spPr>
          <a:xfrm>
            <a:off x="5638680" y="9144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4482" t="49141" r="73358" b="35025"/>
          <a:stretch/>
        </p:blipFill>
        <p:spPr>
          <a:xfrm>
            <a:off x="1523880" y="15238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094" t="29699" r="73366" b="54486"/>
          <a:stretch/>
        </p:blipFill>
        <p:spPr>
          <a:xfrm>
            <a:off x="63244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482" t="48290" r="73244" b="36167"/>
          <a:stretch/>
        </p:blipFill>
        <p:spPr>
          <a:xfrm>
            <a:off x="5105520" y="68580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4393" t="67131" r="73388" b="17084"/>
          <a:stretch/>
        </p:blipFill>
        <p:spPr>
          <a:xfrm>
            <a:off x="380880" y="457200"/>
            <a:ext cx="2438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4323" t="33858" r="73528" b="50352"/>
          <a:stretch/>
        </p:blipFill>
        <p:spPr>
          <a:xfrm>
            <a:off x="533520" y="6094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0:20:00Z</dcterms:created>
  <dc:creator>blum</dc:creator>
  <dc:description/>
  <dc:language>en-US</dc:language>
  <cp:lastModifiedBy>blum</cp:lastModifiedBy>
  <dcterms:modified xsi:type="dcterms:W3CDTF">2005-12-06T01:18:34Z</dcterms:modified>
  <cp:revision>5</cp:revision>
  <dc:subject/>
  <dc:title>Slide 1</dc:title>
</cp:coreProperties>
</file>