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211A-0C7C-4D9A-974E-697AC4C45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3050-5734-413D-8649-27F6084E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32EF-F90D-453B-8B82-5127E5E4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0AEE-8653-49FC-9E9E-FC098AFD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92D2-5265-4AEB-AFF5-A8875C2C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EB6F-39B9-4D0E-87B6-C204B9DF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76D3-898F-43A6-A9CA-01D58117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6053-4925-4E95-A262-6AD240D0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7D18-DC01-4BF5-BB97-2EAC74BB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10AA-0B8F-46B1-AD04-A29FD3FD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E551-78C2-45D5-A973-A1C87830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0A69-9642-4473-A997-CFE80CEF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2E47-8A00-4912-B640-1C1BED566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4401" t="29621" r="73558" b="54698"/>
          <a:stretch/>
        </p:blipFill>
        <p:spPr>
          <a:xfrm>
            <a:off x="609480" y="380880"/>
            <a:ext cx="3276720" cy="3200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14275" t="48516" r="73299" b="35419"/>
          <a:stretch/>
        </p:blipFill>
        <p:spPr>
          <a:xfrm>
            <a:off x="304920" y="2057400"/>
            <a:ext cx="4038480" cy="3916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14382" t="67461" r="73487" b="17153"/>
          <a:stretch/>
        </p:blipFill>
        <p:spPr>
          <a:xfrm>
            <a:off x="4572000" y="1752480"/>
            <a:ext cx="396252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4172" t="18787" r="73384" b="64877"/>
          <a:stretch/>
        </p:blipFill>
        <p:spPr>
          <a:xfrm>
            <a:off x="4952880" y="685800"/>
            <a:ext cx="3733920" cy="3676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14264" t="38185" r="73436" b="45528"/>
          <a:stretch/>
        </p:blipFill>
        <p:spPr>
          <a:xfrm>
            <a:off x="5334120" y="3048120"/>
            <a:ext cx="3276360" cy="3252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14331" t="56800" r="73484" b="27647"/>
          <a:stretch/>
        </p:blipFill>
        <p:spPr>
          <a:xfrm>
            <a:off x="4572000" y="1676520"/>
            <a:ext cx="4038480" cy="386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14205" t="75474" r="73517" b="8225"/>
          <a:stretch/>
        </p:blipFill>
        <p:spPr>
          <a:xfrm>
            <a:off x="685800" y="838080"/>
            <a:ext cx="4440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4393" t="30251" r="73307" b="53768"/>
          <a:stretch/>
        </p:blipFill>
        <p:spPr>
          <a:xfrm>
            <a:off x="5638680" y="914400"/>
            <a:ext cx="2971800" cy="2895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14482" t="49141" r="73358" b="35025"/>
          <a:stretch/>
        </p:blipFill>
        <p:spPr>
          <a:xfrm>
            <a:off x="1523880" y="1523880"/>
            <a:ext cx="3276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4094" t="29699" r="73366" b="54486"/>
          <a:stretch/>
        </p:blipFill>
        <p:spPr>
          <a:xfrm>
            <a:off x="6324480" y="2057400"/>
            <a:ext cx="2819520" cy="2666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14482" t="48290" r="73244" b="36167"/>
          <a:stretch/>
        </p:blipFill>
        <p:spPr>
          <a:xfrm>
            <a:off x="5105520" y="685800"/>
            <a:ext cx="3047760" cy="2895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14393" t="67131" r="73388" b="17084"/>
          <a:stretch/>
        </p:blipFill>
        <p:spPr>
          <a:xfrm>
            <a:off x="380880" y="457200"/>
            <a:ext cx="24386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4323" t="33858" r="73528" b="50352"/>
          <a:stretch/>
        </p:blipFill>
        <p:spPr>
          <a:xfrm>
            <a:off x="533520" y="609480"/>
            <a:ext cx="3047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0:20:00Z</dcterms:created>
  <dc:creator>blum</dc:creator>
  <dc:description/>
  <dc:language>en-US</dc:language>
  <cp:lastModifiedBy>blum</cp:lastModifiedBy>
  <dcterms:modified xsi:type="dcterms:W3CDTF">2005-12-06T01:18:34Z</dcterms:modified>
  <cp:revision>5</cp:revision>
  <dc:subject/>
  <dc:title>Slide 1</dc:title>
</cp:coreProperties>
</file>